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B4B-A8E3-462A-9E28-CF68CE74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4E9-EA40-4CDA-8E47-6039E91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B41-6AB8-4874-BE2D-46B40A5B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9EE-4F72-4834-B667-B3C56A9B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426-DEFC-4281-94CA-D549474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8E1-4710-4911-9C5F-71F48D5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691-085B-4FAC-8090-EA00F75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102-F6EB-41D3-ADFD-A8FF6A51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F5D-B59F-489C-AD19-3383DED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AB1-9E7E-446D-811E-5219700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BF0-B251-4D72-A4D6-20D6B4A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7A7-0ED9-4EED-923F-9B571321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9E8-BFF9-4552-9592-DFC9D978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O7CamtNBDUHYAl_5XNyoA;_ylu=X3oDMTEwNTJsdXY0BGNvbG8DZQRwb3MDMgRzZWMDc2MEdnRpZANGNjczXzg3/SIG=1hi6phls4/EXP=1137837606/**http%3A//images.search.yahoo.com/search/images/view%3Fback=http%253A%252F%252Fsearch.yahoo.com%252Fsearch%253Fp%253Dpicts%252Bof%252Blightening%2526ei%253DUTF-8%2526fl%253D0%26h=324%26w=439%26imgcurl=www.captaingfb.com%252FLIGHTENING_STRIKE.jpg%26imgurl=www.captaingfb.com%252FLIGHTENING_STRIKE.jpg%26size=26.8kB%26name=LIGHTENING_STRIKE.jpg%26rcurl=http%253A%252F%252Fwww.captaingfb.com%252Fweatherlinks.html%26rurl=http%253A%252F%252Fwww.captaingfb.com%252Fweatherlinks.html%26p=lightening%26type=jpeg%26no=2%26tt=24%252C493%26fr=FP-tab-web-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ww.captaingfb.com/LIGHTENING_STRI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ity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y Donald and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4320" y="2565360"/>
            <a:ext cx="1508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7578720" y="2565360"/>
            <a:ext cx="1565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 is hazardou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 electrical appliances near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verload electrical circuits, use faulty appliances, tamper with electrical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ng children should always be protected against the hazards of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Electric Circui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only work when they are a part of a complet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are such things as bulbs, batteries, buzzers, resis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es are used to control electric circuits by switching them on/of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1268280"/>
          <a:ext cx="561636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6163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witch that you find to control a light is called a flip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keyboard that we used for this presentation contains a push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2781360"/>
          <a:ext cx="3819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819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 Hospital tr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motor is an electrical component which transfers electrical energy to kinetic energy. An electrical trolley shows this in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ing more batteries increases the voltage. This makes the current flow and makes the trolley move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www.cobb.k12.ga.us/~Simpson/Teacher%20Sites/Teacher%20Sites/Electric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www.schellelectronics.com/SE%20WEB%20Pictures/Power%20of%20Electricit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 is a flow of char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is measured in amperes/amps for sh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a resis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sisters are used to control the size of current that flow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ig resistors allow only small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mall resistors allow large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re are two types of resistor fixed and variabl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ou can control the speed of the trolley with a variable resisto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1557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92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192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 hope you have enjoyed our presen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 u="sng">
                <a:solidFill>
                  <a:srgbClr val="ff0000"/>
                </a:solidFill>
                <a:uFillTx/>
                <a:latin typeface="Monotype Corsiva"/>
              </a:rPr>
              <a:t>The End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1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26Z</dcterms:created>
  <dc:creator>HalbertD</dc:creator>
  <dc:description/>
  <dc:language>en-US</dc:language>
  <cp:lastModifiedBy>Halbertd</cp:lastModifiedBy>
  <dcterms:modified xsi:type="dcterms:W3CDTF">2006-01-26T15:16:52Z</dcterms:modified>
  <cp:revision>14</cp:revision>
  <dc:subject/>
  <dc:title>Electricity on the move</dc:title>
</cp:coreProperties>
</file>